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3CFE-6B81-4B03-859E-3194EC7A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BE7-9175-497F-BB75-CB35D3D9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7089-09C1-4D3B-863D-268DF0C0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393A-0DAA-4BC1-A2FA-73467220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17E-A163-4DDA-B98B-1E9FABD2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C9F-F55D-462F-8383-73D5391D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DAF-6719-4B09-B73B-F152A955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627-4591-4753-AA7B-962C76F4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270-B47D-408D-B538-4E72C4D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89B-E4F7-4D47-B8EB-F9F2828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AE0-0CE2-45DC-9218-0A447BB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29A-FD0B-46B6-B9C4-83E09FC6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394-FBFF-40BD-92DD-70601C7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D0A-3176-47BE-95EB-46343D2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2CF-B6E6-4B7A-86B3-ADF013A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B23-BAAB-4603-843C-BB29192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B3B-BFD2-48C1-BAC0-E4FF41A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B62-80C4-4E49-B2E8-45BDA5F9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EAA-FAF8-46CA-9DE1-8B7BEEA8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8B68-8BFD-4463-8FE9-527580257E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3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Lemacks, Tabatha</cp:lastModifiedBy>
  <dcterms:modified xsi:type="dcterms:W3CDTF">2011-02-18T14:36:42Z</dcterms:modified>
  <cp:revision>47</cp:revision>
  <dc:subject>Math</dc:subject>
  <dc:title>Penguin Math Book 1st Grade</dc:title>
</cp:coreProperties>
</file>